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0E8-9C63-4E28-B389-0E74A0A0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7A6-0B20-468C-98A0-8E83997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FAC-C9C8-4429-995B-5ACAC44D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1B3-AAB8-4384-8CB3-C7642AF3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5FD-BBB1-49F2-8C2E-21AA00D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97A-86A0-4D78-9030-0BBB463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78F-4576-4C8D-AD28-5B778D29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A1D-A5CB-495E-87B0-CA54E4C1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8FC-3585-4EA7-8027-6D9370F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0BA-AD02-4ADF-9388-F22C621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F70-4EF7-42C2-87D2-42EFBC6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D50-80A6-4649-97DC-1004E5F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771-9868-420A-9994-E8497C952D2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2210040" cy="16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895840" cy="2322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05:56Z</dcterms:created>
  <dc:creator>user</dc:creator>
  <dc:description/>
  <dc:language>en-US</dc:language>
  <cp:lastModifiedBy>user</cp:lastModifiedBy>
  <dcterms:modified xsi:type="dcterms:W3CDTF">2006-05-05T05:41:26Z</dcterms:modified>
  <cp:revision>7</cp:revision>
  <dc:subject/>
  <dc:title>Slide 1</dc:title>
</cp:coreProperties>
</file>